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7CB3-BE12-4B66-82D7-805C26118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9621-B68D-4C9F-8D82-CF5C4592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6BCE-1A34-4D08-9490-FCF56B1EC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4684-06A7-42F5-A0DC-9EB185D1C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E0A3-0292-4208-B0AD-EC2AA8F8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FE73-8D12-43EE-9E52-7CBA6C0A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9C94-7778-464A-BFC7-AC81F1C1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051E-B80D-44D5-8A47-CEB1323E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6DC8-824C-416A-8DB0-0164EFE6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3C67-A635-4C7B-9B35-6917D2E9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DACD-6394-47DC-AF7B-BA4A7913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7B10-326B-4DDE-9214-582A9134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9EC5-3C0A-445A-9B80-3675CED76D1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400" spc="-1" strike="noStrike">
                <a:solidFill>
                  <a:srgbClr val="000000"/>
                </a:solidFill>
                <a:latin typeface="Cooper Black"/>
              </a:rPr>
              <a:t>UNIÓN VENEZOLANA ORIEN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000000"/>
                </a:solidFill>
                <a:latin typeface="Arial"/>
              </a:rPr>
              <a:t>VISIÓN UN MILL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Cooper Black"/>
              </a:rPr>
              <a:t>AGRÚPELOS Y ANÍM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PGRUPO02"/>
          <p:cNvPicPr/>
          <p:nvPr/>
        </p:nvPicPr>
        <p:blipFill>
          <a:blip r:embed="rId1"/>
          <a:stretch/>
        </p:blipFill>
        <p:spPr>
          <a:xfrm>
            <a:off x="6400800" y="4876920"/>
            <a:ext cx="1971720" cy="14954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Oración intercesora en la iglesia y G.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Grupos Pequeños que se reúnen en la Escuela Sabát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Involúcrelos en los Ministerios Espiritu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Visitación pastoral. Pastor, Ancianos y líderes de G.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romoción en los cul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ooper Black"/>
              </a:rPr>
              <a:t>TIEMPO DEL G.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9900"/>
                </a:solidFill>
                <a:latin typeface="Arial"/>
              </a:rPr>
              <a:t>PROGRAMA DE ESCUELA SABÁT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Servicio de canto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15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Programa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20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Tiempo G.P.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Compañerismo</a:t>
            </a: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5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Planificación estratégica</a:t>
            </a: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5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Repaso lección Esc. Sab.</a:t>
            </a: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35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Total 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1 h. 15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PGRUPO01"/>
          <p:cNvPicPr/>
          <p:nvPr/>
        </p:nvPicPr>
        <p:blipFill>
          <a:blip r:embed="rId1"/>
          <a:stretch/>
        </p:blipFill>
        <p:spPr>
          <a:xfrm>
            <a:off x="3586320" y="4991040"/>
            <a:ext cx="1971360" cy="1866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ooper Black"/>
              </a:rPr>
              <a:t>TIEMPO G.P. HOG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evocion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Oración intercesor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apacitació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lanificación, ejecución y evaluació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Dsa9901"/>
          <p:cNvPicPr/>
          <p:nvPr/>
        </p:nvPicPr>
        <p:blipFill>
          <a:blip r:embed="rId1"/>
          <a:stretch/>
        </p:blipFill>
        <p:spPr>
          <a:xfrm>
            <a:off x="228600" y="472428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0000"/>
                </a:solidFill>
                <a:latin typeface="Cooper Black"/>
              </a:rPr>
              <a:t>LOS MINISTERIOS ESPIRITU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 Rounded MT Bold"/>
              </a:rPr>
              <a:t>ORGANIZACIÓN LAICA PARA TERMINAR LA MI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ccff"/>
                </a:solidFill>
                <a:latin typeface="Cooper Black"/>
              </a:rPr>
              <a:t>“</a:t>
            </a:r>
            <a:r>
              <a:rPr b="0" lang="es-ES" sz="4400" spc="-1" strike="noStrike">
                <a:solidFill>
                  <a:srgbClr val="00ccff"/>
                </a:solidFill>
                <a:latin typeface="Cooper Black"/>
              </a:rPr>
              <a:t>UNA IGLESIA AMIGABL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cabeza bonbillo"/>
          <p:cNvPicPr/>
          <p:nvPr/>
        </p:nvPicPr>
        <p:blipFill>
          <a:blip r:embed="rId1"/>
          <a:stretch/>
        </p:blipFill>
        <p:spPr>
          <a:xfrm>
            <a:off x="6248520" y="3809880"/>
            <a:ext cx="2133360" cy="1405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PGRUPO03"/>
          <p:cNvPicPr/>
          <p:nvPr/>
        </p:nvPicPr>
        <p:blipFill>
          <a:blip r:embed="rId2"/>
          <a:stretch/>
        </p:blipFill>
        <p:spPr>
          <a:xfrm>
            <a:off x="685800" y="3726000"/>
            <a:ext cx="2895480" cy="1646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Cooper Black"/>
              </a:rPr>
              <a:t>OBJETIVOS Y EL G.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ff00"/>
                </a:solidFill>
                <a:latin typeface="Arial"/>
              </a:rPr>
              <a:t>Distribución de las metas entre los G.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Arial"/>
              </a:rPr>
              <a:t>Bautis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Arial"/>
              </a:rPr>
              <a:t>Siemb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Arial"/>
              </a:rPr>
              <a:t>Ministerios Espiritu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Arial"/>
              </a:rPr>
              <a:t>Revistas Prior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Arial"/>
              </a:rPr>
              <a:t>Diez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Arial"/>
              </a:rPr>
              <a:t>Recole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Arial"/>
              </a:rPr>
              <a:t>Folletos de Escuela Sab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ff00"/>
                </a:solidFill>
                <a:latin typeface="Arial"/>
              </a:rPr>
              <a:t>Evaluación semanal en la reunión Líde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ff00"/>
                </a:solidFill>
                <a:latin typeface="Arial"/>
              </a:rPr>
              <a:t>Formulario de Evalu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CARRETA1"/>
          <p:cNvPicPr/>
          <p:nvPr/>
        </p:nvPicPr>
        <p:blipFill>
          <a:blip r:embed="rId1"/>
          <a:stretch/>
        </p:blipFill>
        <p:spPr>
          <a:xfrm>
            <a:off x="7467480" y="1876320"/>
            <a:ext cx="1392480" cy="1552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ARRETA2"/>
          <p:cNvPicPr/>
          <p:nvPr/>
        </p:nvPicPr>
        <p:blipFill>
          <a:blip r:embed="rId2"/>
          <a:stretch/>
        </p:blipFill>
        <p:spPr>
          <a:xfrm>
            <a:off x="6656400" y="5440320"/>
            <a:ext cx="2335320" cy="1341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ooper Black"/>
              </a:rPr>
              <a:t>MINISTERIOS ESPIRITUALES Y LAS MET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DSA9902"/>
          <p:cNvPicPr/>
          <p:nvPr/>
        </p:nvPicPr>
        <p:blipFill>
          <a:blip r:embed="rId1"/>
          <a:stretch/>
        </p:blipFill>
        <p:spPr>
          <a:xfrm>
            <a:off x="6400800" y="464832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ccff"/>
                </a:solidFill>
                <a:latin typeface="Arial"/>
              </a:rPr>
              <a:t>Meta: congregaciones, voluntarios necesarios y mater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ccff"/>
                </a:solidFill>
                <a:latin typeface="Arial"/>
              </a:rPr>
              <a:t>¿Cuándo los capacitarem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ccff"/>
                </a:solidFill>
                <a:latin typeface="Arial"/>
              </a:rPr>
              <a:t>Instructores Laicos. Don de la Enseñan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ccff"/>
                </a:solidFill>
                <a:latin typeface="Arial"/>
              </a:rPr>
              <a:t>Listado por G.P. y por Congreg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ccff"/>
                </a:solidFill>
                <a:latin typeface="Arial"/>
              </a:rPr>
              <a:t>Coordinador: Plan de Capacitación y semi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ccff"/>
                </a:solidFill>
                <a:latin typeface="Arial"/>
              </a:rPr>
              <a:t>Material de Capacit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ccff"/>
                </a:solidFill>
                <a:latin typeface="Arial"/>
              </a:rPr>
              <a:t>Reunión periódica con el Pas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ccff"/>
                </a:solidFill>
                <a:latin typeface="Arial"/>
              </a:rPr>
              <a:t>Apoyan como testifica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SA9913"/>
          <p:cNvPicPr/>
          <p:nvPr/>
        </p:nvPicPr>
        <p:blipFill>
          <a:blip r:embed="rId1"/>
          <a:stretch/>
        </p:blipFill>
        <p:spPr>
          <a:xfrm>
            <a:off x="0" y="502920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Meta: Bautismos y Graduación de los cursos bíbl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¿Cuántos graduandos tendremos al finalizar la Siemb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Instructores bíblicos. Especialistas en conseguir y dar estudios bíblicos. 60% ó 7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Listado por G.P. y por Congreg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Capacit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Coordinador: organiza trabajo Obra nueva y materi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Empuje en el G.P. y apertura de ob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ooper Black"/>
              </a:rPr>
              <a:t>MINISTERIOS ESPIRITUALES Y LAS MET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9900"/>
                </a:solidFill>
                <a:latin typeface="Cooper Black"/>
              </a:rPr>
              <a:t>MINISTERIOS ESPIRITUALES Y LAS MET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DSA9918"/>
          <p:cNvPicPr/>
          <p:nvPr/>
        </p:nvPicPr>
        <p:blipFill>
          <a:blip r:embed="rId1"/>
          <a:stretch/>
        </p:blipFill>
        <p:spPr>
          <a:xfrm>
            <a:off x="6324480" y="4876920"/>
            <a:ext cx="2438640" cy="18288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etas: # de lugares de predicación, almas, predicaciones congregacio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vangelistas. Especialistas en la predicación y toma de decisiones en evangelismo público y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istado por G.P. y congreg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apacit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ordinador: ejercicios, materiales y preparación campañas G.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edicación cul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DSA9912"/>
          <p:cNvPicPr/>
          <p:nvPr/>
        </p:nvPicPr>
        <p:blipFill>
          <a:blip r:embed="rId1"/>
          <a:stretch/>
        </p:blipFill>
        <p:spPr>
          <a:xfrm>
            <a:off x="0" y="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Cooper Black"/>
              </a:rPr>
              <a:t>MINISTERIOS ESPIRITUALES Y LAS MET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0099"/>
                </a:solidFill>
                <a:latin typeface="Arial"/>
              </a:rPr>
              <a:t>Metas: cuidar y mantener el 70% de los recién naci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0099"/>
                </a:solidFill>
                <a:latin typeface="Arial"/>
              </a:rPr>
              <a:t>Hermanos Mayores. Especialistas en sostener y educar a los nuevos en la 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0099"/>
                </a:solidFill>
                <a:latin typeface="Arial"/>
              </a:rPr>
              <a:t>Capacit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0099"/>
                </a:solidFill>
                <a:latin typeface="Arial"/>
              </a:rPr>
              <a:t>Coordinador: materiales, clase recién bautizados y planificación de la consolid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0099"/>
                </a:solidFill>
                <a:latin typeface="Arial"/>
              </a:rPr>
              <a:t>Listado por G.P. y Congreg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0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5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0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5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0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8002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ooper Black"/>
              </a:rPr>
              <a:t>¿QUÉ HACER CON LOS REZAGAD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DSA9916"/>
          <p:cNvPicPr/>
          <p:nvPr/>
        </p:nvPicPr>
        <p:blipFill>
          <a:blip r:embed="rId1"/>
          <a:stretch/>
        </p:blipFill>
        <p:spPr>
          <a:xfrm>
            <a:off x="3352680" y="2514600"/>
            <a:ext cx="2438640" cy="1828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PES COMUNI UVO</cp:lastModifiedBy>
  <dcterms:modified xsi:type="dcterms:W3CDTF">2011-11-06T15:51:0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